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6D91-33F1-4A47-BFBE-60A926D2969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4720-ABE3-4C50-8575-08877A67C1E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9ED0-639F-432D-8E2B-0A39FFF9A67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6840-CEE2-42E7-8CB1-403DFB4809B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96E-EC1A-4CFB-B9C3-9E1A29A0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F4C-A89D-4F8C-B335-5E089F15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148-A119-4806-BBE8-8BE3E36F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76C-E155-4556-89D8-1E4A173D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7D3-EC68-412C-97B5-02AE48CE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3E3-E439-4862-A7F0-E3E6F658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02B-FBEF-4E2D-AFA3-2C9195F6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DBB-FF58-4408-86BC-E001D31B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280-1246-439F-9E52-2099F7CA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510-97BA-44CB-A80A-CA78A8ED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AB8-BBB7-4D71-9FCF-7A5C4412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C6A-59EC-4AFB-B505-B2A6501A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BE7B-52F5-4E54-9079-8E3BBD4F8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圖檔\20130704金山荷花田.jpg"/>
          <p:cNvPicPr/>
          <p:nvPr/>
        </p:nvPicPr>
        <p:blipFill>
          <a:blip r:embed="rId1"/>
          <a:srcRect l="11362" t="0" r="0" b="0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文字方塊 1"/>
          <p:cNvSpPr/>
          <p:nvPr/>
        </p:nvSpPr>
        <p:spPr>
          <a:xfrm>
            <a:off x="901800" y="5842080"/>
            <a:ext cx="24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14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夏荷讀書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字方塊 1"/>
          <p:cNvSpPr/>
          <p:nvPr/>
        </p:nvSpPr>
        <p:spPr>
          <a:xfrm>
            <a:off x="3355920" y="838080"/>
            <a:ext cx="2238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圖書館報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140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163.20.181.11/Picture/%2F%AD%EC%A6%ED%A5%C1%C3%C0%AF%E0%AFZ%2F0990705%A4%E5%A4%C6%B0%D1%B3X--%A9_%AC%FC%B3%A1%B8%A8%A4%E5%A4%C6%A5%CD%AC%A1%C5%E9%C5%E7%C0%E7%A4%40/images/fullsize/990706109.JPG.JPG"/>
          <p:cNvPicPr/>
          <p:nvPr/>
        </p:nvPicPr>
        <p:blipFill>
          <a:blip r:embed="rId1"/>
          <a:srcRect l="8045" t="0" r="30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文字方塊 1"/>
          <p:cNvSpPr/>
          <p:nvPr/>
        </p:nvSpPr>
        <p:spPr>
          <a:xfrm>
            <a:off x="1097280" y="457200"/>
            <a:ext cx="20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奇美部落體驗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7/1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～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7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2388" t="0" r="71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文字方塊 1"/>
          <p:cNvSpPr/>
          <p:nvPr/>
        </p:nvSpPr>
        <p:spPr>
          <a:xfrm>
            <a:off x="1981080" y="5778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秋季新書準備中 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8/1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上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D:\圖檔\豐子愷.gif"/>
          <p:cNvPicPr/>
          <p:nvPr/>
        </p:nvPicPr>
        <p:blipFill>
          <a:blip r:embed="rId1"/>
          <a:stretch/>
        </p:blipFill>
        <p:spPr>
          <a:xfrm>
            <a:off x="2133720" y="11160"/>
            <a:ext cx="496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圖書館主任\Desktop\01030610 教師人文讀書會--櫻梅--玫瑰的名字\DSC05051.JPG"/>
          <p:cNvPicPr/>
          <p:nvPr/>
        </p:nvPicPr>
        <p:blipFill>
          <a:blip r:embed="rId1"/>
          <a:srcRect l="2841" t="0" r="0" b="0"/>
          <a:stretch/>
        </p:blipFill>
        <p:spPr>
          <a:xfrm>
            <a:off x="0" y="1563840"/>
            <a:ext cx="9144000" cy="5294160"/>
          </a:xfrm>
          <a:prstGeom prst="rect">
            <a:avLst/>
          </a:prstGeom>
          <a:ln w="0">
            <a:noFill/>
          </a:ln>
        </p:spPr>
      </p:pic>
      <p:sp>
        <p:nvSpPr>
          <p:cNvPr id="57" name="文字方塊 1"/>
          <p:cNvSpPr/>
          <p:nvPr/>
        </p:nvSpPr>
        <p:spPr>
          <a:xfrm>
            <a:off x="2774520" y="380880"/>
            <a:ext cx="35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親愛的夥伴，我們不是分離，而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更開闊的方式手牽手，繼續愛我們的孩子與家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\Desktop\first_day_of_summer_2013-1536005-hp.gif"/>
          <p:cNvPicPr/>
          <p:nvPr/>
        </p:nvPicPr>
        <p:blipFill>
          <a:blip r:embed="rId1"/>
          <a:stretch/>
        </p:blipFill>
        <p:spPr>
          <a:xfrm>
            <a:off x="325440" y="1998720"/>
            <a:ext cx="8534520" cy="3917880"/>
          </a:xfrm>
          <a:prstGeom prst="rect">
            <a:avLst/>
          </a:prstGeom>
          <a:ln w="0">
            <a:noFill/>
          </a:ln>
        </p:spPr>
      </p:pic>
      <p:sp>
        <p:nvSpPr>
          <p:cNvPr id="59" name="文字方塊 1"/>
          <p:cNvSpPr/>
          <p:nvPr/>
        </p:nvSpPr>
        <p:spPr>
          <a:xfrm>
            <a:off x="3567240" y="9144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99"/>
                </a:solidFill>
                <a:latin typeface="標楷體"/>
                <a:ea typeface="標楷體"/>
              </a:rPr>
              <a:t>敬祝暑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6-26T00:59:44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